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9C9-5FCC-4B6E-9D92-EDAA17B1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330-4D7A-4B46-957E-5859836D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AD4-A246-480D-947C-D2876400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647-B0EA-4A6D-A636-F15A5383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E553-B3EF-48BC-8C69-4AAE9CEE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AB60-3462-4403-AD00-7ACC6AE7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15CF-3063-4BB6-9655-CF14041D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BB64-4E50-4359-B552-7DA3E765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31E3-6F7F-4653-AA92-38228E84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5326-313C-4C70-9BB9-D12FC997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6A26-EB1E-4A25-AC9A-06D80B96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7F3-9DB8-4D12-862E-F4920D5D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6A8E-62DE-442A-B063-BB67E2E4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1255-DFAE-49FC-9722-40EB31B8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9F74-351F-401A-B98C-65608F1A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ED2D-8043-4D92-82F4-412D0ECF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1F08-6C06-490E-9742-C3980792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6D0-F803-4A86-AAA8-64A1D81B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DDE-9610-419A-9364-5987C68F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33F-77FF-4A89-BEEF-291DF092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F81-D44B-4C51-B16D-E1A1CCC1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C92-0D1E-4C39-A2F8-9BEDDEBA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16A-B052-4EE2-B0AF-BC6BD8CD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624-3CCC-46C4-9DBC-67EB9EF1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EC51-F8F8-471F-BAF9-A01256979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17E6-24ED-45DC-8B41-E073A3421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&amp;Vcy; &amp;Vcy;&amp;ocy;&amp;lcy;&amp;gcy;&amp;ocy;&amp;gcy;&amp;rcy;&amp;acy;&amp;dcy;&amp;scy;&amp;kcy;&amp;ocy;&amp;jcy; &amp;ocy;&amp;bcy;&amp;lcy;&amp;acy;&amp;scy;&amp;tcy;&amp;icy; &amp;vcy;&amp;zcy;&amp;rcy;&amp;ycy;&amp;vcy; &amp;gcy;&amp;acy;&amp;zcy;&amp;acy; &amp;rcy;&amp;acy;&amp;zcy;&amp;rcy;&amp;ucy;&amp;shcy;&amp;icy;&amp;lcy; &amp;dcy;&amp;ocy;&amp;mcy;, &amp;iecy;&amp;scy;&amp;tcy;&amp;softcy; &amp;pcy;&amp;ocy;&amp;scy;&amp;tcy;&amp;rcy;&amp;acy;&amp;dcy;&amp;acy;&amp;vcy;&amp;shcy;&amp;icy;&amp;iecy; &quot; &amp;Ncy;&amp;ocy;&amp;vcy;&amp;ocy;&amp;scy;&amp;tcy;&amp;icy; &amp;Rcy;&amp;ocy;&amp;scy;&amp;scy;&amp;icy;&amp;icy; &amp;icy; &amp;Acy;&amp;lcy;&amp;tcy;&amp;acy;&amp;jcy;&amp;scy;&amp;kcy;&amp;ocy;&amp;gcy;&amp;ocy; &amp;kcy;&amp;rcy;&amp;acy;&amp;yacy;. &amp;Acy;&amp;lcy;&amp;tcy;&amp;acy;&amp;jcy;Post"/>
          <p:cNvPicPr/>
          <p:nvPr/>
        </p:nvPicPr>
        <p:blipFill>
          <a:blip r:embed="rId2"/>
          <a:stretch/>
        </p:blipFill>
        <p:spPr>
          <a:xfrm>
            <a:off x="179280" y="3213000"/>
            <a:ext cx="8964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775480" y="7259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2349360"/>
            <a:ext cx="8064720" cy="459720"/>
          </a:xfrm>
          <a:prstGeom prst="rect">
            <a:avLst/>
          </a:prstGeom>
          <a:solidFill>
            <a:srgbClr val="0000a4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ные потребители природного газа в быту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4056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1162080" cy="203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3"/>
          <a:srcRect l="0" t="7559" r="11338" b="7559"/>
          <a:stretch/>
        </p:blipFill>
        <p:spPr>
          <a:xfrm>
            <a:off x="1692360" y="2924280"/>
            <a:ext cx="1439640" cy="2017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03640" y="2924280"/>
            <a:ext cx="1584360" cy="2017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300720" y="2924280"/>
            <a:ext cx="2281320" cy="201744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4859280" y="2924280"/>
            <a:ext cx="1368360" cy="201744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91" name=""/>
          <p:cNvSpPr txBox="1"/>
          <p:nvPr/>
        </p:nvSpPr>
        <p:spPr>
          <a:xfrm>
            <a:off x="900000" y="549360"/>
            <a:ext cx="741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Где природный газ находит свое применени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835280" y="5013360"/>
            <a:ext cx="129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одо-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нагреватели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5084640"/>
            <a:ext cx="10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Газовы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литы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48000" y="5013360"/>
            <a:ext cx="129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оздухо-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нагреватели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32360" y="5013360"/>
            <a:ext cx="120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Газовые 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амины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372360" y="508464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Газовые котлы 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топления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060280"/>
            <a:ext cx="4105080" cy="4032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cc33"/>
                </a:solidFill>
                <a:uFillTx/>
                <a:latin typeface="Arial"/>
              </a:rPr>
              <a:t>Ф</a:t>
            </a:r>
            <a:r>
              <a:rPr b="1" lang="ru-RU" sz="2000" spc="-1" strike="noStrike" u="sng">
                <a:solidFill>
                  <a:srgbClr val="33cc33"/>
                </a:solidFill>
                <a:uFillTx/>
                <a:latin typeface="Arial"/>
              </a:rPr>
              <a:t>изические свой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з без цвета и запах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о растворим в воде, легче воздуха. Нетоксич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кольку метан  не имеет запаха, в него для удобства обнаружения утечки  добавляют </a:t>
            </a:r>
            <a:r>
              <a:rPr b="1" lang="ru-RU" sz="2000" spc="-1" strike="noStrike">
                <a:solidFill>
                  <a:srgbClr val="ee941c"/>
                </a:solidFill>
                <a:latin typeface="Arial"/>
              </a:rPr>
              <a:t>меркаптан</a:t>
            </a:r>
            <a:r>
              <a:rPr b="0" lang="ru-RU" sz="2000" spc="-1" strike="noStrike">
                <a:solidFill>
                  <a:srgbClr val="ee941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ещество с неприятным запах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06920" y="1197000"/>
            <a:ext cx="4537080" cy="4032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пасные свойства мета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.Взрывоопасность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при концентрации в воздухе 5 – 15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.Пожароопасность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при взрыве и нарушении правил безопасног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пользования газовыми прибор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3.Выделение угарного газ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О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при неполном сгоран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Н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Удушающее действи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за счет вытеснения кислорода (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О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из возду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сновные свойства СН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692000" y="1773360"/>
            <a:ext cx="7010280" cy="41148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66ff66"/>
              </a:gs>
              <a:gs pos="100000">
                <a:srgbClr val="006666"/>
              </a:gs>
            </a:gsLst>
            <a:lin ang="5400000"/>
          </a:gradFill>
          <a:ln w="38160">
            <a:solidFill>
              <a:srgbClr val="0066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Нормальная концентрация кислорода в воздухе  около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21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При концентрации в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17%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ухудшаются двигательные функции организ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При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14%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теряется координация движений, ухудшается умственное восприятие обстанов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При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12%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возможны потеря сознания и </a:t>
            </a: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летальный исхо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д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от гипоксии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4319640" cy="411480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ОБЩИЕ ПРАВИ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К пользованию бытовыми газовыми приборами допускаются лица, знающие правила обращения с этими прибор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.Запрещается допускать к пользованию газом детей дошкольного возраста, лиц, не контролирующих свои действия и лиц, не знающих правил обращения с газовыми прибор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тветственность за безопасную эксплуатацию бытовых газовых приборов в квартирах и частных домах несут </a:t>
            </a:r>
            <a:r>
              <a:rPr b="0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квартиросъемщики и домовладель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35440" y="1557360"/>
            <a:ext cx="4229280" cy="4546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тегорически запреще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тавлять работающие газовые приборы без присмот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мовольно проводить замену и ремонт газовых приборов и газового обору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ьзоваться газом при закрытых форточках, фрамугах, вентиляционных каналах, отсутствии тяги в вытяжных устройств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овать газовые плиты для отопления помещ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ьзоваться помещениями, где установлены газовые приборы, для сна и отды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Основные правила безопасност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738360" cy="1295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50920" y="2997360"/>
            <a:ext cx="1514520" cy="1310760"/>
          </a:xfrm>
          <a:prstGeom prst="rect">
            <a:avLst/>
          </a:prstGeom>
          <a:solidFill>
            <a:srgbClr val="cc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медленно прекратить пользование газовыми приборам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682920" y="2348640"/>
            <a:ext cx="719280" cy="432000"/>
          </a:xfrm>
          <a:prstGeom prst="rightArrow">
            <a:avLst>
              <a:gd name="adj1" fmla="val 50000"/>
              <a:gd name="adj2" fmla="val 41625"/>
            </a:avLst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2997360"/>
            <a:ext cx="1655640" cy="1310760"/>
          </a:xfrm>
          <a:prstGeom prst="rect">
            <a:avLst/>
          </a:prstGeom>
          <a:solidFill>
            <a:srgbClr val="0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ткрыть окна, форточки, двери для проветривания помещений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4869000"/>
            <a:ext cx="8351640" cy="122184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82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c"/>
              </a:rPr>
              <a:t>Не допускается в зоне утечки газа:</a:t>
            </a:r>
            <a:r>
              <a:rPr b="0" lang="ru-RU" sz="2000" spc="-1" strike="noStrike">
                <a:solidFill>
                  <a:srgbClr val="ffffff"/>
                </a:solidFill>
                <a:latin typeface="Ariac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c"/>
              </a:rPr>
              <a:t>пользоваться телефонами</a:t>
            </a:r>
            <a:r>
              <a:rPr b="1" i="1" lang="en-US" sz="1800" spc="-1" strike="noStrike">
                <a:solidFill>
                  <a:srgbClr val="ffffff"/>
                </a:solidFill>
                <a:latin typeface="Ariac"/>
              </a:rPr>
              <a:t> всех типов</a:t>
            </a:r>
            <a:r>
              <a:rPr b="1" i="1" lang="ru-RU" sz="1800" spc="-1" strike="noStrike">
                <a:solidFill>
                  <a:srgbClr val="ffffff"/>
                </a:solidFill>
                <a:latin typeface="Ariac"/>
              </a:rPr>
              <a:t>, электрическими звонками, освещением,</a:t>
            </a:r>
            <a:r>
              <a:rPr b="1" i="1" lang="en-US" sz="1800" spc="-1" strike="noStrike">
                <a:solidFill>
                  <a:srgbClr val="ffffff"/>
                </a:solidFill>
                <a:latin typeface="Ariac"/>
              </a:rPr>
              <a:t> открытым огнем,</a:t>
            </a:r>
            <a:r>
              <a:rPr b="1" i="1" lang="ru-RU" sz="1800" spc="-1" strike="noStrike">
                <a:solidFill>
                  <a:srgbClr val="ffffff"/>
                </a:solidFill>
                <a:latin typeface="Ariac"/>
              </a:rPr>
              <a:t> включать или </a:t>
            </a:r>
            <a:r>
              <a:rPr b="1" i="1" lang="en-US" sz="1800" spc="-1" strike="noStrike">
                <a:solidFill>
                  <a:srgbClr val="ffffff"/>
                </a:solidFill>
                <a:latin typeface="Ariac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c"/>
              </a:rPr>
              <a:t>выключать </a:t>
            </a:r>
            <a:r>
              <a:rPr b="1" i="1" lang="en-US" sz="1800" spc="-1" strike="noStrike">
                <a:solidFill>
                  <a:srgbClr val="ffffff"/>
                </a:solidFill>
                <a:latin typeface="Ariac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c"/>
              </a:rPr>
              <a:t>любые потребители электричества</a:t>
            </a:r>
            <a:r>
              <a:rPr b="1" i="1" lang="en-US" sz="1800" spc="-1" strike="noStrike">
                <a:solidFill>
                  <a:srgbClr val="ffffff"/>
                </a:solidFill>
                <a:latin typeface="Ariac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2997360"/>
            <a:ext cx="1295280" cy="1310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екрыть краны к приборам и на приборах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357720"/>
            <a:ext cx="719280" cy="431640"/>
          </a:xfrm>
          <a:prstGeom prst="rightArrow">
            <a:avLst>
              <a:gd name="adj1" fmla="val 50000"/>
              <a:gd name="adj2" fmla="val 41660"/>
            </a:avLst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3357720"/>
            <a:ext cx="719280" cy="431640"/>
          </a:xfrm>
          <a:prstGeom prst="rightArrow">
            <a:avLst>
              <a:gd name="adj1" fmla="val 50000"/>
              <a:gd name="adj2" fmla="val 41660"/>
            </a:avLst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3357720"/>
            <a:ext cx="718920" cy="431640"/>
          </a:xfrm>
          <a:prstGeom prst="rightArrow">
            <a:avLst>
              <a:gd name="adj1" fmla="val 50000"/>
              <a:gd name="adj2" fmla="val 41639"/>
            </a:avLst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08720" y="2997360"/>
            <a:ext cx="1513080" cy="1310760"/>
          </a:xfrm>
          <a:prstGeom prst="rect">
            <a:avLst/>
          </a:prstGeom>
          <a:solidFill>
            <a:srgbClr val="00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звать аварийную службу газа по телефону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1;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11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5229360"/>
            <a:ext cx="374472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оследовательность действий при утечке бытового газ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помни! Это важн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967120" y="438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20640"/>
            <a:ext cx="8569440" cy="580680"/>
          </a:xfrm>
          <a:prstGeom prst="rect">
            <a:avLst/>
          </a:prstGeom>
          <a:solidFill>
            <a:srgbClr val="99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При пользовании НЕИСПРАВНЫМ газовым оборудованием может произойти взрыв или отравление оксидом углерода (угарным газом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&amp;Pcy;&amp;rcy;&amp;icy;&amp;chcy;&amp;icy;&amp;ncy;&amp;ocy;&amp;jcy; &amp;vcy;&amp;zcy;&amp;rcy;&amp;ycy;&amp;vcy;&amp;acy; &amp;vcy; &amp;zhcy;&amp;icy;&amp;lcy;&amp;ocy;&amp;mcy; &amp;dcy;&amp;ocy;&amp;mcy;&amp;iecy; &amp;vcy; &amp;Pcy;&amp;ocy;&amp;dcy;&amp;mcy;&amp;ocy;&amp;scy;&amp;kcy;&amp;ocy;&amp;vcy;&amp;softcy;&amp;iecy; &amp;mcy;&amp;ocy;&amp;gcy;&amp;lcy;&amp;acy; &amp;scy;&amp;tcy;&amp;acy;&amp;tcy;&amp;softcy; &amp;ucy;&amp;tcy;&amp;iecy;&amp;chcy;&amp;kcy;&amp;acy; &amp;gcy;&amp;acy;&amp;zcy;&amp;acy; &amp;Rcy;&amp;Icy;&amp;Acy; &amp;Ncy;&amp;ocy;&amp;vcy;&amp;ocy;&amp;scy;&amp;tcy;&amp;icy;"/>
          <p:cNvPicPr/>
          <p:nvPr/>
        </p:nvPicPr>
        <p:blipFill>
          <a:blip r:embed="rId2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530000"/>
            <a:ext cx="8785440" cy="532764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1.Основу бытового газа составляет…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твет: Мета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2.Метан легче или тяжелее воздух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твет: Легч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3.При какой концентрации в воздухе взрывается метан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твет: 5-15%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4.Какой цвет у горящего метан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твет: Метан не имеет цвета. Речь должна идти о цвете его пламе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5.Какого цвета должно быть пламя горящего метана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твет: Спокойное пламя голубовато-зеленого цв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6.В каких случаях разрешено спать в помещениях, где установлены газовые прибор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твет: Запрещено в любых случа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7.Какого размера должно быть пламя газовой горелки по отношению к дну посуд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твет: Не выходить за края д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8. Что в первую очередь надо делать перед включением газовой пли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твет: Открыть для проветривания окно или форточ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9.Какой запах у бытового газ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твет: Запах меркаптана, который добавлен  для распознавания его утеч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10. Кого запрещается  допускать к  самостоятельному  пользованию газовыми приборам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твет: Детей дошкольного возраста, лиц, не контролирующих свои действия и лиц, не знающих правил обращения с газовыми прибор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43280" y="692280"/>
            <a:ext cx="5095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роверь свои знан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6920" y="1989000"/>
            <a:ext cx="6913800" cy="4680000"/>
          </a:xfrm>
          <a:prstGeom prst="cloudCallout">
            <a:avLst>
              <a:gd name="adj1" fmla="val -46347"/>
              <a:gd name="adj2" fmla="val 34666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чке бытового газа вызвайте аварийную службу из незагазованного помещ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елефо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01;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04 (11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863640" cy="76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02:31:22Z</dcterms:created>
  <dc:creator>Admin</dc:creator>
  <dc:description/>
  <dc:language>en-US</dc:language>
  <cp:lastModifiedBy>Компью</cp:lastModifiedBy>
  <dcterms:modified xsi:type="dcterms:W3CDTF">2014-12-04T04:17:28Z</dcterms:modified>
  <cp:revision>40</cp:revision>
  <dc:subject/>
  <dc:title>Слайд 1</dc:title>
</cp:coreProperties>
</file>